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1AAF-A35A-41AE-A3B3-231CA3EEC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DB76-14A3-4F8E-B5DD-8085C6D17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1A45-08FC-44ED-844F-0194FF54C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AD6C-9DE3-455A-9553-3B77B2A26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70E-D376-4D34-971E-A7E83269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0EB-D5D1-46E3-A5EE-3DD16049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2B6-16B3-44C1-8B38-6AC66967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B59-5634-4387-8D88-F41CE910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5E27-E07D-4DC8-BFD0-A5967CCF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5C86-840B-446D-A336-A2AB8A24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2BC5-454E-45FB-9A9F-07C87CA5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8C3C-C029-49A1-8F61-D64EFA70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CFEC-86E5-439C-8B32-12924B76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8999-E16F-4C62-9EBD-01E43001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8FCA-602F-4A9F-B8AA-42C6E04F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654-E720-4B5C-803C-BB6305FA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66E2-8E9E-43EB-AC65-8F871710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871C-8ACF-450F-8626-F8F850BA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D3AB-6EBE-4022-AE65-B97E5F87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019C-A2B5-44B3-A033-9213CCCC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4A6D-0726-49B8-AAD7-41578D37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64959-0F19-436C-9A66-65DF2C54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E9AFB-DBA4-40E3-99E4-8BDC1CF7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0D4F4-2843-46A3-BAFF-7FB22808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BD6C3-9B98-4C1C-A2DA-8EC6B72A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7F129-E3C4-4313-8C37-B8C2E3B2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69D2-9640-42C3-87A8-DBA5F817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9955E-74BA-4E0D-BB03-1CAE0C0E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6B6F2-8027-4729-84AA-54F7C09F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C54F-A458-48FB-B444-79AF0B59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B3846-3932-4586-AF4B-947253AE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0188-E882-4F6E-AC66-DBCB20F5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2AF5-A1B2-4543-B170-675D90C5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4C878-D4F3-4DF8-846A-627FA998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19323-4D51-4FC3-ABDF-97441F84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D5326-46BE-411E-A850-70A978DB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E3E61-B689-49A0-9B17-B6E50FA4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017-E389-4E44-95C9-34072A31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27E22-DE25-4EB0-A9F3-B9E213DD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347F3-B904-48B6-9861-69C637AF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9CCB3-02B4-4138-9088-5B3AE35D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28B03-60D9-47E1-8715-5671CD89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E9FD3-3156-4476-ACF9-FC2C04F4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11EC4-D1C0-489B-9560-036E7078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B6166-1E7B-4EAE-B35C-AFD8489B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1EB56-D38E-46D3-A9AC-E306571F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F9F9B-1089-4B9B-AF7A-68D3A82A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80FBF-65E1-4188-BE4A-E83BE0AC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22CF-EB27-4348-8501-1754ADE4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5AED0-6C49-44DC-9129-84F61A61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7373F-913C-41B0-9609-480E5497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3CC31-004A-46E8-9B5C-B63FB49A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EFF8C-D2D4-4EDE-B356-11A7C644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9C89A-230A-43C6-8CE2-42DE355D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D02B1-C213-430C-B537-0FA25A7B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E120E-362C-4D0A-B960-2A3859B6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1455D-1D6E-4831-9D84-F5A7A743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FAE82-BADD-4B58-A117-247C6B0C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80118-BE89-4C9D-84EB-6F60B268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267F-FDBA-462A-91EA-A019F1EC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3C457-59CE-4AB3-B691-C6FEB965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AF61E-9429-4CBD-9998-1C67804E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8BC31-C06D-44A2-A0A5-361CE48B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67D3E-54E2-4A08-A96F-7F0909FA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2B07D-5E45-43BF-A601-50281A1D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EA85C-FE20-42C8-BA16-96CB2B6A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C4453-B785-4431-A337-E7895797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2D01C-3408-4E95-89D0-F0DEFF51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95F8B-18FD-42F4-8F80-0B1FE037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9FBD3-86F2-425F-BD26-5BE9982B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5CA-4A98-4E66-8DE4-61771174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86E45-EC8B-41B2-9876-F5167E80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2220B-95F6-4893-9839-F228F708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F729E-CE2E-4EAC-A1C8-4E322C77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A0658-3126-418C-9E97-0AED01E5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B5085-ADD2-49FA-A03D-ADC37A60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0199B-8329-4FF9-B33D-891EA8A6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8D737-FCFE-4657-AD7F-8043B67D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06990-BD82-4A4F-8DF4-54954FC1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F1FD1-2260-47AB-A015-19038615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D1503-4CF7-4692-9BF4-7EE20FFB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83E-9656-4C42-BB14-CA9245FF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ED6CC-D23E-4D18-AF6B-4F41725B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6396E-8770-4DBD-B48E-E5F83102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83CEA-15F1-4C7A-9820-A30247F5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F3BF3-1890-4504-809B-17C0BCE6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8C7AB-A979-4D53-9118-2410AF78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E63-E0F0-4F26-B665-B2EF13ED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EC13-65B9-4D8B-AC88-4CDDFE5BD97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0B2F-CB64-4F09-9B49-4BE4D8E55E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B425-DF81-4374-9DE0-B0DD1D7DA6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48C6-4D9A-4053-BD32-560042C9E27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BAC5-067D-4C4E-A6F9-6C8B4377081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BDD7-CB3F-4887-8509-E5CE4E8F233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9A4A-7C6B-4853-8D67-FB1E8D65990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NG 201 Introduction to Literature   Prof. Evers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749160" y="122400"/>
            <a:ext cx="8016840" cy="16333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"/>
          <p:cNvSpPr/>
          <p:nvPr/>
        </p:nvSpPr>
        <p:spPr>
          <a:xfrm>
            <a:off x="301680" y="2895480"/>
            <a:ext cx="8540640" cy="32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45720" tIns="0" bIns="0" anchor="t">
            <a:noAutofit/>
          </a:bodyPr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ociety unworthy of huma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talitarian state / empires (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1984, Star Wars series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velopmental derailment or degeneration (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Fahrenheit 451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ost-apocalyptic (after end of life on earth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o choi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o freedo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o alternativ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36" name="Content Placeholder 2"/>
          <p:cNvSpPr/>
          <p:nvPr/>
        </p:nvSpPr>
        <p:spPr>
          <a:xfrm>
            <a:off x="301680" y="1600200"/>
            <a:ext cx="8540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cial restric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yper-egalitarian – no excellen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nly 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ligion as contro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amily non-exist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ity / Natu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olitics / Contro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749160" y="122400"/>
            <a:ext cx="8016840" cy="1633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2"/>
          <a:stretch/>
        </p:blipFill>
        <p:spPr>
          <a:xfrm>
            <a:off x="4952880" y="1066680"/>
            <a:ext cx="4017960" cy="5715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4"/>
          <p:cNvSpPr/>
          <p:nvPr/>
        </p:nvSpPr>
        <p:spPr>
          <a:xfrm>
            <a:off x="380880" y="3581280"/>
            <a:ext cx="449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dentif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of Science Fiction that you see in the story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type of Science Fiction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s this story?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s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dystopian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utopian or neither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Realistic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Fiction set in a time remote enough from the present to be considered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histor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ritten in a time period in which the author has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lived 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o more recently than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one generatio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before its composition 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20 years ag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istorical facts mix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imaginar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characters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Fact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ctual historical ev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uthentic period setting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al historical figures (people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114624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68bba"/>
                </a:solidFill>
                <a:uFillTx/>
                <a:latin typeface="Corbel"/>
                <a:hlinkClick r:id="rId2" action="ppaction://hlinksldjump"/>
              </a:rPr>
              <a:t>Most Common</a:t>
            </a:r>
            <a:r>
              <a:rPr b="0" i="1" lang="en-US" sz="26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Main characters of the story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imaginary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Secondary characters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may be actual historical figur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Actual historical events are imbedded – part of the plot but not main focus of the narrativ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68bba"/>
                </a:solidFill>
                <a:uFillTx/>
                <a:latin typeface="Corbel"/>
                <a:hlinkClick r:id="rId3" action="ppaction://hlinksldjump"/>
              </a:rPr>
              <a:t>2</a:t>
            </a:r>
            <a:r>
              <a:rPr b="0" lang="en-US" sz="2600" spc="-1" strike="noStrike" u="sng" baseline="30000">
                <a:solidFill>
                  <a:srgbClr val="168bba"/>
                </a:solidFill>
                <a:uFillTx/>
                <a:latin typeface="Corbel"/>
                <a:hlinkClick r:id="rId4" action="ppaction://hlinksldjump"/>
              </a:rPr>
              <a:t>nd</a:t>
            </a:r>
            <a:r>
              <a:rPr b="0" lang="en-US" sz="2600" spc="-1" strike="noStrike" u="sng" baseline="30000">
                <a:solidFill>
                  <a:srgbClr val="168bba"/>
                </a:solidFill>
                <a:uFillTx/>
                <a:latin typeface="Corbel"/>
                <a:hlinkClick r:id="rId5" action="ppaction://hlinksldjump"/>
              </a:rPr>
              <a:t> Type</a:t>
            </a:r>
            <a:r>
              <a:rPr b="0" i="1" lang="en-US" sz="26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Past described complete with social traditions, customs, morals, &amp; values of the period – exact details of the period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No mention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of actual historical events nor actual historical figures as characters – it is only a historical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setting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68bba"/>
                </a:solidFill>
                <a:uFillTx/>
                <a:latin typeface="Corbel"/>
                <a:hlinkClick r:id="rId6" action="ppaction://hlinksldjump"/>
              </a:rPr>
              <a:t>3</a:t>
            </a:r>
            <a:r>
              <a:rPr b="0" lang="en-US" sz="2600" spc="-1" strike="noStrike" u="sng" baseline="30000">
                <a:solidFill>
                  <a:srgbClr val="168bba"/>
                </a:solidFill>
                <a:uFillTx/>
                <a:latin typeface="Corbel"/>
                <a:hlinkClick r:id="rId7" action="ppaction://hlinksldjump"/>
              </a:rPr>
              <a:t>rd</a:t>
            </a:r>
            <a:r>
              <a:rPr b="0" lang="en-US" sz="2600" spc="-1" strike="noStrike" u="sng" baseline="30000">
                <a:solidFill>
                  <a:srgbClr val="168bba"/>
                </a:solidFill>
                <a:uFillTx/>
                <a:latin typeface="Corbel"/>
                <a:hlinkClick r:id="rId8" action="ppaction://hlinksldjump"/>
              </a:rPr>
              <a:t> Type: Historical Fantas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Historical story containing elements of fantasy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7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Time warps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7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Supernatural features/ghosts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0" y="122400"/>
            <a:ext cx="8016840" cy="16333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76320" y="1828440"/>
            <a:ext cx="8021520" cy="6858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atch this example of historical fict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495680" cy="52452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4"/>
          <p:cNvSpPr/>
          <p:nvPr/>
        </p:nvSpPr>
        <p:spPr>
          <a:xfrm>
            <a:off x="380880" y="3581280"/>
            <a:ext cx="3719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dentif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characteristics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f Historical fiction that you see in the movi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form of historical fiction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is this movie?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749160" y="122400"/>
            <a:ext cx="8016840" cy="16333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40880" y="1828440"/>
            <a:ext cx="8021880" cy="685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838080" y="342900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e prepared to answer questions about Science Fiction and Historical Fiction based on this Lectu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749160" y="122400"/>
            <a:ext cx="8016840" cy="16333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740880" y="1828440"/>
            <a:ext cx="8021880" cy="6858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efinition/ purpos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152280" y="2819520"/>
            <a:ext cx="8610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cience Fiction – is a genre of fiction that only recently has been given scholarly attentio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Kurt Vonnegut once called the designation "Science-Fiction writer" a sort of "file-folder label or pigeonhole" and complained that most literary critics mistook the file label for "for a urinal." Apparently "the way a person gets stuck into this file," Vonnegut went on to say, "is to notice technology."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e was referring  to the fact that at one time SciFi was considered a vulgar form of pop entertainment--a robots-and-flying-saucers pulp genre just a notch above (or below) the comic book. What  Cosmopolitan magazine is to high-gloss journalism, SciFi was to serious literatur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"/>
          <p:cNvSpPr/>
          <p:nvPr/>
        </p:nvSpPr>
        <p:spPr>
          <a:xfrm>
            <a:off x="1143000" y="1996920"/>
            <a:ext cx="6705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ends toward the hypothetical and has a decidedly more prophetic or apocalyptic goal. The Science Fiction  writer is more interested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future scenario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vivid alternative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, with provocative extrapolations and exciting possibilities, than with the </a:t>
            </a:r>
            <a:r>
              <a:rPr b="1" i="1" lang="en-US" sz="2400" spc="-1" strike="noStrike">
                <a:solidFill>
                  <a:srgbClr val="000000"/>
                </a:solidFill>
                <a:latin typeface="Corbel"/>
              </a:rPr>
              <a:t>naturalistic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Corbel"/>
              </a:rPr>
              <a:t>realistic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ranscription of current circumstances. In short, true science fiction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visionary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writing about science, technology and social change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dous Huxley –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Brave New Worl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193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ames Hilton –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Lost Horizon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193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. F. Skinner –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Walden Two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194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orge Orwell,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1984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194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ay Bradbury –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Fahrenheit 451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195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dous Huxley –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Islan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196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hilip K. Dick –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Do Androids-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, 196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2"/>
          <p:cNvSpPr/>
          <p:nvPr/>
        </p:nvSpPr>
        <p:spPr>
          <a:xfrm>
            <a:off x="228600" y="152388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Fantasy adventure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 the action defies belief or exceeds ordinary experience--e.g., tales of improbable events, strange creatures, supernatural occurrences, and imaginary settings. Precursors of this particular type of SF include ancient and classical myths and legend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Utopian (or Dystopian) Fiction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 imaginative fiction (usually set in a faraway place or in the distant past or future) that depicts a world whose political organization, technical resources, or social and moral code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strikingly differen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than our own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Exotic Travel Narratives, "Fantastic Journeys," and Esoteric Text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 Supposedly true (!) accounts of travel or adventure or of scientific or occult investigation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2"/>
          <p:cNvSpPr/>
          <p:nvPr/>
        </p:nvSpPr>
        <p:spPr>
          <a:xfrm>
            <a:off x="380880" y="1752480"/>
            <a:ext cx="85345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Moral Parables and Philosphical Tale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 stories that satirize or challenge conventional beliefs, institutions, or social practices by positing radically different societies or alternative worlds. Examples: Voltaire,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Candide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(1759). Also, stories that address the question of social change or the implications of social theori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"Disaster Fiction" and Apocalyptic SF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 Fictional unveilings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earth's destiny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 Runs the gamut from visions of universal harmony and prosperity to fully imagined end-of-the-world scenarios--both naturally caused (e.g. a comet, a deadly disease) and man-made (e.g., nuclear war, a biogenetic accident, etc.). For decades a favorite sub-genre of Hollywood and TV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0132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o Place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del of the good socie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nrealistic daydrea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omas More, 1516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Utopia  - island in the Atlantic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Good Place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mbiguity of ter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ream pla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1" descr=""/>
          <p:cNvPicPr/>
          <p:nvPr/>
        </p:nvPicPr>
        <p:blipFill>
          <a:blip r:embed="rId2"/>
          <a:stretch/>
        </p:blipFill>
        <p:spPr>
          <a:xfrm>
            <a:off x="4114800" y="3852720"/>
            <a:ext cx="50292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749160" y="122400"/>
            <a:ext cx="8016840" cy="16333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740880" y="1828440"/>
            <a:ext cx="8021880" cy="6858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deal place /no-pla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52280" y="2895480"/>
            <a:ext cx="8229600" cy="23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45720" tIns="0" bIns="0" anchor="t">
            <a:noAutofit/>
          </a:bodyPr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rt - express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onsumerism – brings happin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ime – energy &gt;&gt;is controll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cial responsibi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unishment – justice is serv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omen / Sex &gt;&gt; often sexual freedom in earlier narrativ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ducation and upbringing- is consistent with social valu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749160" y="122400"/>
            <a:ext cx="8016840" cy="16333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740880" y="1828440"/>
            <a:ext cx="8021880" cy="6858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Historical developmen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TextBox 3"/>
          <p:cNvSpPr/>
          <p:nvPr/>
        </p:nvSpPr>
        <p:spPr>
          <a:xfrm>
            <a:off x="506520" y="2743200"/>
            <a:ext cx="7924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arly English writers include Thomas More,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Utopia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(1516)  and Francis Bacon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The New Atlantis (1624, English version 1627) –both written in Latin – the language of scholarship back then of course –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part of the Renaissance philosophical and literary movement in Europ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Resurgence  of interest in narratives of utopia in late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century – much of it in relation to the movement for rights of man / equal rights – especially among the French revolution: Mercier’s  L’ans 2440  of 1772 in French (English title: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Memoirs of the Year 2500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1772)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frican American , women , an d progressive writers took up utopian speculation for the future  -- especially late 188s-1920s – during period of social engineering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02:03:47Z</dcterms:created>
  <dc:creator>Sally Everson</dc:creator>
  <dc:description/>
  <dc:language>en-US</dc:language>
  <cp:lastModifiedBy>Sally Everson</cp:lastModifiedBy>
  <dcterms:modified xsi:type="dcterms:W3CDTF">2011-11-09T02:02:24Z</dcterms:modified>
  <cp:revision>22</cp:revision>
  <dc:subject/>
  <dc:title>Science Fiction / Historical Fiction</dc:title>
</cp:coreProperties>
</file>